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B4CD9-09C2-42A9-A7E6-4A4582C83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C1986-6A72-462D-8104-6D2800280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AB12F-956D-4345-8979-389C54A06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D47A6-AEFF-4C37-A265-D2CFFE119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29211-F36D-4DCB-961C-F2A1C41D7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1DF23-1CCE-4623-8B66-D355FF8A8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B5F2D-DEB9-4AFE-A2B3-46C788340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FECFC-8D70-4C68-9EF5-2BA455D63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F73E2-8DA7-4FED-8F61-65CCC35BB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C57CB-0804-457C-902A-4ABA671F8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87B1D-5EC8-4C5C-8CB8-BEF88C647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C2231-1AB7-4275-A6AC-DDC19547D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FB73B-DCD4-4709-B6C6-6115B017E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6A9EC-0E08-4C32-AC4F-86543073C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ACDA1-B204-479F-A1F8-1B7F71CBB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09134-835C-4786-BB8C-55B3F8A24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F7F20-089C-41CE-B02B-C06790880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8EBA7-553B-4A9D-8386-7808F9A81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5588A-A218-4516-B437-E11A11527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40F7-ACF4-423F-9941-F8DC4C986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8276C-AB6D-4CCB-83C3-F4E64D47D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EBD3C-0519-4887-A193-FD74B5EC3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EF9BA-1E0D-4242-B4E2-FB4E0E0D5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1EB8A-3EFE-4394-BF47-B01B75C97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A925-C5F5-4157-9C02-9E87F927982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F28E-C167-4DA3-B2F5-FB379EABFF9F}"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90" name="600full-the-outsiders-poster" descr=""/>
          <p:cNvPicPr/>
          <p:nvPr/>
        </p:nvPicPr>
        <p:blipFill>
          <a:blip r:embed="rId1"/>
          <a:stretch/>
        </p:blipFill>
        <p:spPr>
          <a:xfrm>
            <a:off x="0" y="-166680"/>
            <a:ext cx="9144000" cy="8167680"/>
          </a:xfrm>
          <a:prstGeom prst="rect">
            <a:avLst/>
          </a:prstGeom>
          <a:ln w="0">
            <a:noFill/>
          </a:ln>
        </p:spPr>
      </p:pic>
      <p:sp>
        <p:nvSpPr>
          <p:cNvPr id="9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y: S.E Hinton!</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1080" y="228600"/>
            <a:ext cx="69343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Outsiders!</a:t>
            </a:r>
            <a:endParaRPr b="0" lang="en-US" sz="4400" spc="-1" strike="noStrike">
              <a:solidFill>
                <a:srgbClr val="ffcc66"/>
              </a:solidFill>
              <a:latin typeface="Times New Roman"/>
            </a:endParaRPr>
          </a:p>
        </p:txBody>
      </p:sp>
      <p:sp>
        <p:nvSpPr>
          <p:cNvPr id="93" name="PlaceHolder 2"/>
          <p:cNvSpPr>
            <a:spLocks noGrp="1"/>
          </p:cNvSpPr>
          <p:nvPr>
            <p:ph type="subTitle"/>
          </p:nvPr>
        </p:nvSpPr>
        <p:spPr>
          <a:xfrm>
            <a:off x="1828800" y="2742840"/>
            <a:ext cx="7315200" cy="3048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y: Alex Corpus,Celeste Estrada,Eraykah B.,Erika Styne, and Courtney O.</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miles!</a:t>
            </a:r>
            <a:endParaRPr b="0" lang="en-US" sz="4400" spc="-1" strike="noStrike">
              <a:solidFill>
                <a:srgbClr val="ffcc66"/>
              </a:solidFill>
              <a:latin typeface="Times New Roman"/>
            </a:endParaRPr>
          </a:p>
        </p:txBody>
      </p:sp>
      <p:sp>
        <p:nvSpPr>
          <p:cNvPr id="9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He’s got eyes that are two pieces of pale blue-green ic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ny referring to Darry!”)</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Grinning like a Cheesy c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otes!</a:t>
            </a:r>
            <a:endParaRPr b="0" lang="en-US" sz="4400" spc="-1" strike="noStrike">
              <a:solidFill>
                <a:srgbClr val="ffcc66"/>
              </a:solidFill>
              <a:latin typeface="Times New Roman"/>
            </a:endParaRPr>
          </a:p>
        </p:txBody>
      </p:sp>
      <p:sp>
        <p:nvSpPr>
          <p:cNvPr id="97" name="PlaceHolder 2"/>
          <p:cNvSpPr>
            <a:spLocks noGrp="1"/>
          </p:cNvSpPr>
          <p:nvPr>
            <p:ph/>
          </p:nvPr>
        </p:nvSpPr>
        <p:spPr>
          <a:xfrm>
            <a:off x="1219320" y="11430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Times New Roman"/>
              </a:rPr>
              <a:t>Loyalty Quotes:</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Since Mom and Dad were killed in an auto wreck, the three of us only get to stay together only as long as we behav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Times New Roman"/>
              </a:rPr>
              <a:t>Violence Quotes:</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Greasers can’t walk alone too much or they’ll get jumped, or someone will come by and scream “Greasers!” at them which doesn’t make you feel too hot if you know what I mea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phors!</a:t>
            </a:r>
            <a:endParaRPr b="0" lang="en-US" sz="4400" spc="-1" strike="noStrike">
              <a:solidFill>
                <a:srgbClr val="ffcc66"/>
              </a:solidFill>
              <a:latin typeface="Times New Roman"/>
            </a:endParaRPr>
          </a:p>
        </p:txBody>
      </p:sp>
      <p:sp>
        <p:nvSpPr>
          <p:cNvPr id="9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n page # 11</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I f you picture a little dark puppy that has been kicked to many times and lost in a crowd of strangers, you’ll have Johnny.</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rony!</a:t>
            </a:r>
            <a:endParaRPr b="0" lang="en-US" sz="4400" spc="-1" strike="noStrike">
              <a:solidFill>
                <a:srgbClr val="ffcc66"/>
              </a:solidFill>
              <a:latin typeface="Times New Roman"/>
            </a:endParaRPr>
          </a:p>
        </p:txBody>
      </p:sp>
      <p:sp>
        <p:nvSpPr>
          <p:cNvPr id="10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Gold poem says to “stay gold” means like not having your childhood ripped away from you.Also not seeing all the bad things in life.Like ponyboy (his best friend) not seeing Johnny murder a someone…</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ge #77</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erbole!</a:t>
            </a:r>
            <a:endParaRPr b="0" lang="en-US" sz="44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I was dying for a Pepsi”</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ge #76</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ification!</a:t>
            </a:r>
            <a:endParaRPr b="0" lang="en-US" sz="4400" spc="-1" strike="noStrike">
              <a:solidFill>
                <a:srgbClr val="ffcc66"/>
              </a:solidFill>
              <a:latin typeface="Times New Roman"/>
            </a:endParaRPr>
          </a:p>
        </p:txBody>
      </p:sp>
      <p:sp>
        <p:nvSpPr>
          <p:cNvPr id="10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It about to Swallowed m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ge #6</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en Ponyboy calls Two-Bit “cheesy c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a</cp:lastModifiedBy>
  <dcterms:modified xsi:type="dcterms:W3CDTF">2010-03-28T23:31:07Z</dcterms:modified>
  <cp:revision>3</cp:revision>
  <dc:subject/>
  <dc:title>PowerPoint Presentation</dc:title>
</cp:coreProperties>
</file>